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6"/>
          </p:nvPr>
        </p:nvSpPr>
        <p:spPr>
          <a:xfrm>
            <a:off x="3973320" y="0"/>
            <a:ext cx="30366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7"/>
          </p:nvPr>
        </p:nvSpPr>
        <p:spPr>
          <a:xfrm>
            <a:off x="0" y="8832600"/>
            <a:ext cx="303696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8"/>
          </p:nvPr>
        </p:nvSpPr>
        <p:spPr>
          <a:xfrm>
            <a:off x="3973320" y="8832600"/>
            <a:ext cx="3036600" cy="463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C35641-856B-4FB1-B0AB-3AF796205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13172EC-160F-47F7-A93F-8099F1298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194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317C11E-1940-4C7E-BA79-7349BFBEC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78971D4-64C6-486F-94FC-7820944FD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6BC00BA-8271-42FE-8560-59C577D9D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F8DBAC8-6B57-4E6E-BD14-802488547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A16C3A9-FB2E-4215-9EA2-00A1E9D768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AEB038D-334B-40C2-B469-8D85DA58E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AE70CB7-3BB4-499F-85B6-0B7B6730FC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F20FAAC-1FAE-4411-879D-FFEABDD5E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984320" y="609480"/>
            <a:ext cx="2827440" cy="21211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AF57076-F010-47E0-96DF-0745EB468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660B5E5-7E2E-4D35-A7C2-B779AF365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C419FF6-5088-4C71-99D5-790D5D5E4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FE29C6-737F-4082-98F7-F4ACE69AE1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73240" y="687240"/>
            <a:ext cx="4681440" cy="35118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5480" y="4420800"/>
            <a:ext cx="5194440" cy="27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9360" y="69840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3680" y="8832960"/>
            <a:ext cx="30366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5A136D-9511-4316-A34F-794204E4C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22AE8-E921-4987-A6AC-1DDACFA2F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2E656-8429-4E71-8FF4-8498ACBEA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8EC7-2A54-4698-A83F-DFF9CDA00D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004D3-00A2-4509-AF72-AE06664E9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9C8F6-73F0-443C-AEC6-1E912567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CE8B1C-0B90-4CFA-8430-9D5280277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F4599-0D45-4C76-BFFB-89C7E5D59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A23089-A5F6-4A74-8C7F-2C0B27013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779E2-F8C8-4684-B3DE-AD92D63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88507-E265-4FE1-A398-33B35EBA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C5C31-E9DF-48B3-B1D0-97426B3E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33E6B-1FA5-4D8A-A8F2-611CEB8328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3CB0B-B0CD-48FB-9F59-739F02DB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85DB5-A2B9-4EA9-ACC6-D7F120B4E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0D568C-A06E-4E87-973A-E389C235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DFAEF-ED52-4D16-9D56-64ADA58A5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9F48B6-911C-4881-9304-665521C6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BEF66-24E4-4A8E-85CC-689C7D3DD3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6584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2720" y="91440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2860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6584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2720" y="3819960"/>
            <a:ext cx="279684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B0051-4DBD-4379-8A0E-1ADB399C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E189D-2F2D-47CA-BAF5-6B527954E4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6705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FB20-7437-46A9-A851-3F080F254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93CD-E1FA-4D81-9105-7853B6F11C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1996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F6AFC8-EA4F-4454-A57D-B921D7429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914400"/>
            <a:ext cx="42390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19960"/>
            <a:ext cx="8686800" cy="26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6681E-8749-4C78-967B-3279867C8B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904760" y="67053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01160" y="6705360"/>
            <a:ext cx="1219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Bank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0951-E833-4EBB-ADD8-BA2AC1E9B073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6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92160" y="0"/>
            <a:ext cx="826920" cy="81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2"/>
          <p:cNvSpPr/>
          <p:nvPr/>
        </p:nvSpPr>
        <p:spPr>
          <a:xfrm flipH="1">
            <a:off x="1657440" y="934920"/>
            <a:ext cx="748656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23"/>
          <p:cNvSpPr/>
          <p:nvPr/>
        </p:nvSpPr>
        <p:spPr>
          <a:xfrm flipV="1">
            <a:off x="939960" y="1641600"/>
            <a:ext cx="0" cy="521640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24"/>
          <p:cNvSpPr/>
          <p:nvPr/>
        </p:nvSpPr>
        <p:spPr>
          <a:xfrm flipV="1">
            <a:off x="939960" y="0"/>
            <a:ext cx="0" cy="22536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25"/>
          <p:cNvSpPr/>
          <p:nvPr/>
        </p:nvSpPr>
        <p:spPr>
          <a:xfrm flipH="1">
            <a:off x="0" y="936720"/>
            <a:ext cx="22536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252360" y="235080"/>
            <a:ext cx="1400400" cy="138096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3"/>
          </p:nvPr>
        </p:nvSpPr>
        <p:spPr>
          <a:xfrm>
            <a:off x="0" y="67053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4"/>
          </p:nvPr>
        </p:nvSpPr>
        <p:spPr>
          <a:xfrm>
            <a:off x="1904760" y="6705360"/>
            <a:ext cx="28954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5"/>
          </p:nvPr>
        </p:nvSpPr>
        <p:spPr>
          <a:xfrm>
            <a:off x="4800240" y="6705360"/>
            <a:ext cx="121932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Bank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3B5F-0AEC-44D4-9C39-B09EB5456EB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Line 16"/>
          <p:cNvSpPr/>
          <p:nvPr/>
        </p:nvSpPr>
        <p:spPr>
          <a:xfrm flipH="1">
            <a:off x="0" y="838080"/>
            <a:ext cx="9144000" cy="0"/>
          </a:xfrm>
          <a:prstGeom prst="line">
            <a:avLst/>
          </a:prstGeom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42" descr="\\ns01\install\Office\ClipMedia\disk2\FILES\PFILES\MSOFFICE\MEDIA\CNTCD1\ClipArt8\j0343591.wmf"/>
          <p:cNvPicPr/>
          <p:nvPr/>
        </p:nvPicPr>
        <p:blipFill>
          <a:blip r:embed="rId2"/>
          <a:stretch/>
        </p:blipFill>
        <p:spPr>
          <a:xfrm>
            <a:off x="92160" y="0"/>
            <a:ext cx="826920" cy="8175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s://creativecommons.org/licenses/by/4.0/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s://creativecommons.org/licenses/by/4.0/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360" y="22093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SS Development Team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1 June 2008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6AA1D-90B0-4FD7-B1A8-24668C0CD994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roject Strateg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FA75-CA20-4C56-9736-46738010C3C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Quality 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ChartEV"/>
          <p:cNvGraphicFramePr/>
          <p:nvPr/>
        </p:nvGraphicFramePr>
        <p:xfrm>
          <a:off x="533520" y="1371600"/>
          <a:ext cx="8076960" cy="45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2" name="ChartEV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80769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525B-BE7C-4B03-BBDD-9F4EB35A65B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cope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838080"/>
            <a:ext cx="89154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7165F-33F2-4CD8-891E-685616703578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isk Managemen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B0D2-2A4B-4544-B4BD-A981E6A2BDF2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44756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have produced a realistic, aggressive p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lan meets most of the targeted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need management agreement to begin work toward the go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295280" y="1494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676520" y="2285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01760" y="39600"/>
            <a:ext cx="4093920" cy="1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503920" y="-360"/>
            <a:ext cx="639720" cy="6397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0" y="-591840"/>
            <a:ext cx="9144000" cy="118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37840" tIns="0" bIns="6346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          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4" descr="Creative Commons Licens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94400" y="5800680"/>
            <a:ext cx="838440" cy="295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01400" y="1081080"/>
            <a:ext cx="831996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8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31920" y="950760"/>
            <a:ext cx="86310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B93-9387-4072-8295-C0F8DB74192F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39920" y="22392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mmary Of TSP Launch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981080" y="1527120"/>
            <a:ext cx="69343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product objectives and management goals with the t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t project goals and established ro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development strategy, development process and support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overall plan through phase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viewed quality pl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ed detailed plan for phase 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ed risk assess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overview sli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 launch to manag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308520" y="1527120"/>
            <a:ext cx="111492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eting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lide Number Placeholder 5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5E8A-C756-4668-9179-7CE96CCE5F1A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SP Launch Produc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017800" y="1100160"/>
            <a:ext cx="604656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ed team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-member role assig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ntory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surable quality pla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all development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ed team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vidual p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1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risk assess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7CB2-2CEE-453B-8BFC-6A6D2DFC5F84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35040" y="1198080"/>
            <a:ext cx="796752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arned Value Plan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28600" y="91440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84039-8AA7-4818-9E23-585D5C38D9A2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3486-EC47-46DD-857F-3AC19B5EDEC5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4880" y="-360"/>
            <a:ext cx="7111800" cy="7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25320" y="1066680"/>
            <a:ext cx="81820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eam Members and Role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866960" y="1608120"/>
            <a:ext cx="6076800" cy="34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m Le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Interface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ign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lementation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st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lanning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s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y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ort Manag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Membe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4"/>
          <p:cNvSpPr/>
          <p:nvPr/>
        </p:nvSpPr>
        <p:spPr>
          <a:xfrm>
            <a:off x="101520" y="6705720"/>
            <a:ext cx="12193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77C7D-713A-4E9B-B178-6788A9ED4841}" type="slidenum">
              <a:rPr b="0" lang="en-US" sz="1000" spc="-1" strike="noStrike">
                <a:solidFill>
                  <a:srgbClr val="000000"/>
                </a:solidFill>
                <a:latin typeface="Bank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84280" y="390600"/>
            <a:ext cx="5378400" cy="3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ssumption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75920" y="876240"/>
            <a:ext cx="8420040" cy="55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9T13:31:34Z</dcterms:created>
  <dc:creator>SEI</dc:creator>
  <dc:description/>
  <dc:language>en-US</dc:language>
  <cp:lastModifiedBy>wrn_loc_adm</cp:lastModifiedBy>
  <dcterms:modified xsi:type="dcterms:W3CDTF">2018-09-05T13:59:13Z</dcterms:modified>
  <cp:revision>221</cp:revision>
  <dc:subject/>
  <dc:title>PowerPoint Presentation</dc:title>
</cp:coreProperties>
</file>